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EB55-3CDC-4CEE-BAED-47043E7FB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6D53-AEDF-49A8-A778-A47D5AD3B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0E6-CD4F-480B-B4DC-B8D16A18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FEA-0BD6-4512-B90C-6976ECC0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CCC0-AC82-49F2-A672-DC617AD6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8B3D-BFCE-4231-86B0-F981C73F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BA0-5AD4-4489-BA71-D295B703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C83-CCFB-4504-840C-028B6C44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BA7-B02D-45C3-9430-677ED5E8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3F1-3C97-4052-8786-E9FD51B6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98F-8E4C-4155-9526-0273A608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2DC-CDB3-48CF-AA06-CE650AE5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403-0359-46E8-A471-20684A2D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FDA-39B4-4E85-B21E-996A5712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CBC8-920A-44D0-977A-B0488837F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oselly Ju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oselly Juar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oselly Juarez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oselly Juar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5146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Tardes, Yo quiero bailo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alva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 llamo Joselly.  Yo vivo en la ciudad Astoria.  Tengo catorse años.  Yo no tengo hermanos. Soy símpatica y muy perezos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066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962520"/>
            <a:ext cx="41148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! Tengo mucho tarea.  Estoy mucho consada.  Y sí, me encanta bail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40384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Buenos Días, quiero va al parque? ¿En Serio, tu eres una bailarín?      Amy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90920"/>
            <a:ext cx="3886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u está loca.  Yo soy buena bailarín.                                             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971800" y="4724280"/>
            <a:ext cx="37339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Hola, cuantos tareas tenemos? ¿Yassmine, puedo  ir a tu casa?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alv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2578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s muy fastidioso.  No, estoy ocupado.                                                     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quieres hacer? Estoy aburrido.  ¿Tienes una impresora?            Salv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19320" y="5105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assm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293708_554841981209155_903745342_n.jpg"/>
          <p:cNvPicPr/>
          <p:nvPr/>
        </p:nvPicPr>
        <p:blipFill>
          <a:blip r:embed="rId1"/>
          <a:stretch/>
        </p:blipFill>
        <p:spPr>
          <a:xfrm>
            <a:off x="76320" y="457200"/>
            <a:ext cx="1904760" cy="2006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32309_306668989437759_574764083_n.jpg"/>
          <p:cNvPicPr/>
          <p:nvPr/>
        </p:nvPicPr>
        <p:blipFill>
          <a:blip r:embed="rId2"/>
          <a:stretch/>
        </p:blipFill>
        <p:spPr>
          <a:xfrm>
            <a:off x="685800" y="4572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32309_306668989437759_574764083_n.jpg"/>
          <p:cNvPicPr/>
          <p:nvPr/>
        </p:nvPicPr>
        <p:blipFill>
          <a:blip r:embed="rId3"/>
          <a:stretch/>
        </p:blipFill>
        <p:spPr>
          <a:xfrm>
            <a:off x="2133720" y="32767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561028_3030646025587_1998670104_n.jpg"/>
          <p:cNvPicPr/>
          <p:nvPr/>
        </p:nvPicPr>
        <p:blipFill>
          <a:blip r:embed="rId4"/>
          <a:stretch/>
        </p:blipFill>
        <p:spPr>
          <a:xfrm>
            <a:off x="152280" y="4495680"/>
            <a:ext cx="51444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561028_3030646025587_1998670104_n.jpg"/>
          <p:cNvPicPr/>
          <p:nvPr/>
        </p:nvPicPr>
        <p:blipFill>
          <a:blip r:embed="rId5"/>
          <a:stretch/>
        </p:blipFill>
        <p:spPr>
          <a:xfrm>
            <a:off x="2438280" y="4648320"/>
            <a:ext cx="400320" cy="53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561028_3030646025587_1998670104_n.jpg"/>
          <p:cNvPicPr/>
          <p:nvPr/>
        </p:nvPicPr>
        <p:blipFill>
          <a:blip r:embed="rId6"/>
          <a:stretch/>
        </p:blipFill>
        <p:spPr>
          <a:xfrm>
            <a:off x="2133720" y="60199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528941_401872746527519_1209051677_n.jpg"/>
          <p:cNvPicPr/>
          <p:nvPr/>
        </p:nvPicPr>
        <p:blipFill>
          <a:blip r:embed="rId7"/>
          <a:stretch/>
        </p:blipFill>
        <p:spPr>
          <a:xfrm>
            <a:off x="1371600" y="452916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528941_401872746527519_1209051677_n.jpg"/>
          <p:cNvPicPr/>
          <p:nvPr/>
        </p:nvPicPr>
        <p:blipFill>
          <a:blip r:embed="rId8"/>
          <a:stretch/>
        </p:blipFill>
        <p:spPr>
          <a:xfrm>
            <a:off x="2209680" y="25146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528941_401872746527519_1209051677_n.jpg"/>
          <p:cNvPicPr/>
          <p:nvPr/>
        </p:nvPicPr>
        <p:blipFill>
          <a:blip r:embed="rId9"/>
          <a:stretch/>
        </p:blipFill>
        <p:spPr>
          <a:xfrm>
            <a:off x="2209680" y="39625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528941_401872746527519_1209051677_n.jpg"/>
          <p:cNvPicPr/>
          <p:nvPr/>
        </p:nvPicPr>
        <p:blipFill>
          <a:blip r:embed="rId10"/>
          <a:stretch/>
        </p:blipFill>
        <p:spPr>
          <a:xfrm>
            <a:off x="2133720" y="52578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73012_379901238766965_901394990_n.jpg"/>
          <p:cNvPicPr/>
          <p:nvPr/>
        </p:nvPicPr>
        <p:blipFill>
          <a:blip r:embed="rId11"/>
          <a:stretch/>
        </p:blipFill>
        <p:spPr>
          <a:xfrm>
            <a:off x="76320" y="5410080"/>
            <a:ext cx="609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6:00Z</dcterms:modified>
  <cp:revision>113</cp:revision>
  <dc:subject/>
  <dc:title>Profile</dc:title>
</cp:coreProperties>
</file>